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7F7E-F0ED-414C-B85E-55DA529A1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08EBF6-5E75-464E-9299-294A77BD1D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D8B4E1-DD72-4447-9D85-E7BBA6E5A3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E823C55-0A16-4477-A46F-5077BBC16C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AF96227-05A6-41FC-AB0E-5CC042162D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52E8626C-3D1A-4911-AEFC-5BEE610946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4099D-E30B-4EBC-BAB0-4131C85E9A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62410D5-CBF4-470C-BF0E-88E8F3B7E3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1B1100D5-27E4-4A08-9405-54F4FF98B7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3D13AFF7-C9B7-40C7-A1D3-A9A875DAA3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8E23F6-04EB-4B0E-925D-64F55B5A11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2837F6-2D85-444D-8A85-7F9E3E4222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B92AD4-A18A-4B89-810B-67A81C9F8B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DBAA-4DD4-466B-B6D6-D0C64E5CAAF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med"/>
            <a:tailEnd len="med" type="triangle" w="med"/>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med"/>
            <a:tailEnd len="med" type="triangle" w="med"/>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med"/>
            <a:tailEnd len="med" type="triangle" w="med"/>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med"/>
            <a:tailEnd len="med" type="triangle" w="med"/>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med"/>
            <a:tailEnd len="med" type="triangle" w="med"/>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med"/>
            <a:tailEnd len="med" type="triangle" w="med"/>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med"/>
            <a:tailEnd len="med" type="triangle" w="med"/>
          </a:ln>
        </p:spPr>
      </p:cxnSp>
      <p:sp>
        <p:nvSpPr>
          <p:cNvPr id="466" name=""/>
          <p:cNvSpPr/>
          <p:nvPr/>
        </p:nvSpPr>
        <p:spPr>
          <a:xfrm>
            <a:off x="1512720" y="2838600"/>
            <a:ext cx="115272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